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40F5-AE4F-4F65-B069-829F188469E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ins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: Aureliano Adame Jr., Zach Roth, Paul Fisher, and Kyle Gerw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ins Indi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: Aureliano Adame Jr., Zach Roth, Paul Fisher, and Kyle Gerw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Interesting Facts About the Pawm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wnee name derived from Caddoan pariki, meaning “horn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were excellent hun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unted quail, raccoons, skunks, and prairie chick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Interesting Facts About the Pawm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wnee name derived from Caddoan pariki, meaning “horn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 were excellent hunt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unted quail, raccoons, skunks, and prairie chicke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Foot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- Mont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y Lived- They were excellent warriors. They were also very good hun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Wore- They wore many animals skins and used mother nature to supply there col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ackFoot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d- Monta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hey Lived- They were excellent warriors. They were also very good hunt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hey Wore- They wore many animals skins and used mother nature to supply there col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Interesting Facts About Blackf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Blackfoot because of how they wore black moccas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art of the buffalo was used for various reasons. It was never was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d in buffalo made teepe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Interesting Facts About Blackfo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called Blackfoot because of how they wore black moccasi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part of the buffalo was used for various reasons. It was never was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lived in buffalo made teepe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 C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utexas.edu/courses/wilson/ant304/projects/projects98/krochenskip/krochenskip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en.wikipedia.org/wiki/Cheyen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cheyenneindian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ccessgenealogy.com/native/tribes/pawnee/pawneehist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kshs.org/places/pawneeindian/history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onofthesouth.net/union-generals/sioux-indians/sioux-indians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iu.edu/~lewclark/bvsiou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Ci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utexas.edu/courses/wilson/ant304/projects/projects98/krochenskip/krochenskip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en.wikipedia.org/wiki/Cheyen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cheyenneindian.com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accessgenealogy.com/native/tribes/pawnee/pawneehist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kshs.org/places/pawneeindian/history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sonofthesouth.net/union-generals/sioux-indians/sioux-indians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iu.edu/~lewclark/bvsiou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apaho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ikar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iniboin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sin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ul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n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pewyan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w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ot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dats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inah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dan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glal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ag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o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egan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nc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paw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si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ksik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ton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chit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anktonai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ib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apaho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ikar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siniboin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sin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ul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yenn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pewyan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ow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kot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dats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inah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ndan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glal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ag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o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egan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nc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apaw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rsi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ksik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ton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chit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anktonai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: Dakota’s, Kansas, Nebraska, Montana, and Wyom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y lived: Nomadic and moved frequently followed buffalo herds and lodged in teepe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atter how often they moved they were a united tri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oux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d: Dakota’s, Kansas, Nebraska, Montana, and Wyom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hey lived: Nomadic and moved frequently followed buffalo herds and lodged in teepe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matter how often they moved they were a united trib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 Tribe Con’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wore: strips of leather in their hair to keep their hair pulled bac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hes were all made of animal skin (mostly deer skin). Women wore long dresses and leggings, men wore deerskins shirts and tight legg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oux Tribe Con’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hey wore: strips of leather in their hair to keep their hair pulled back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thes were all made of animal skin (mostly deer skin). Women wore long dresses and leggings, men wore deerskins shirts and tight legging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Interesting Facts On Sio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 means “Little Snak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 themselves to Lakota/Dak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activities powow, rodeos, and r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Interesting Facts On Siou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oux means “Little Snak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fer themselves to Lakota/Dako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al activities powow, rodeos, and ra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ne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- Great Plains east of Rocky Mountains west of Mississippi River, Settled in Montana and Oklaho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y Lived- Took care of morning chores after waking up, men prepared to start hunting, women would keep the camp in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yenne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d- Great Plains east of Rocky Mountains west of Mississippi River, Settled in Montana and Oklahom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hey Lived- Took care of morning chores after waking up, men prepared to start hunting, women would keep the camp in ord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ne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Wore- Men wore hip-leggings made of deerskin, women wore moccasins knee length leggings and dresses made of deersk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yenne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hey Wore- Men wore hip-leggings made of deerskin, women wore moccasins knee length leggings and dresses made of deersk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Interesting Facts About the Cheyenn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ee customs was smoking of the peace pi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d their own langu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 homes were made from logs and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Interesting Facts About the Cheyenn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yenee customs was smoking of the peace pi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ad their own langu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ir homes were made from logs and ear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wnee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- Valley of Platte River, Nebras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y Lived- Women grew crops and made pottery, women were perceived as the power of life, men would h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Wore- Women wore skirts and moccasins, and in the winter they wore buckskin dresses, men would wear loin cloths in warmer wea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wnee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d- Valley of Platte River, Nebrask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hey Lived- Women grew crops and made pottery, women were perceived as the power of life, men would hu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hey Wore- Women wore skirts and moccasins, and in the winter they wore buckskin dresses, men would wear loin cloths in warmer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90DC-5013-4C49-9936-D1216182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54E1-4B03-4824-A0B6-12732179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3F95-41E4-4C01-B546-E92ABFDB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BE1E-249F-477C-9D11-1B556EE7B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49FB-333F-4171-BC4E-8ACE9270F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045F-52FA-4AF9-92AA-50C9D063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1644-EBA0-4E47-BC84-CD26C48A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D453-3C48-4964-885B-FCB3452B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8352-CA9F-413F-ACF3-92A3D323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AB16-33CC-40C3-B42D-59DECD4A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E75E-63D9-41E6-B599-8EF2CB2C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E3F2-5A1C-4D12-BB56-DD80DD5E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B1B2-C57E-4856-8A1D-1C49128E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DD94-6F47-4045-BF7A-D83EFEA8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D759-1C4F-4C69-AF52-160E5B2E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ABCB-511A-48C0-956A-804A82E1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2B85-1C86-4007-8014-4BCF7DE61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9469-746A-4EFB-A7E7-E400FDE9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CE8D-DD4F-4D36-A8C8-2E8F3C85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6B5E-BB45-4DE0-94E5-C5B1F099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0042-05F5-4144-94FB-970DB1C3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3781-E84F-4033-BCA4-EC0AC760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2E99-8EFC-49C9-A3D2-DD7C9B3F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7651-78CD-4D53-9C25-DCEBFE02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7195-7385-45E6-8061-47ECDECCC3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20A8-1EF1-4D4E-8B13-1CC4B1426A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utexas.edu/courses/wilson/ant304/projects/projects98/krochenskip/krochenskip.html" TargetMode="External"/><Relationship Id="rId2" Type="http://schemas.openxmlformats.org/officeDocument/2006/relationships/hyperlink" Target="http://en.wikipedia.org/wiki/Cheyenn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Plains Indians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y: Aureliano Adame Jr., Zach Roth, Paul Fisher, and Kyle Gerw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25116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 Interesting Facts About the Pawme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awnee name derived from Caddoan pariki, meaning “horn”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n were excellent hunter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hunted quail, raccoons, skunks, and prairie chicken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lackFoot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ved- Montan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w They Lived- They were excellent warriors. They were also very good hunter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They Wore- They wore many animals skins and used mother nature to supply there colth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 Interesting Facts About Blackfoo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are called Blackfoot because of how they wore black moccasin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very part of the buffalo was used for various reasons. It was never wast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lived in buffalo made teepe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k Cit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http://www.utexas.edu/courses/wilson/ant304/projects/projects98/krochenskip/krochenskip.htm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9900"/>
                </a:solidFill>
                <a:uFillTx/>
                <a:latin typeface="Arial"/>
                <a:hlinkClick r:id="rId2"/>
              </a:rPr>
              <a:t>http://en.wikipedia.org/wiki/Cheyen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cheyenneindian.com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accessgenealogy.com/native/tribes/pawnee/pawneehist.h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kshs.org/places/pawneeindian/history.h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sonofthesouth.net/union-generals/sioux-indians/sioux-indians.h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eiu.edu/~lewclark/bvsioux.htm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ib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44956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rapaho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rikara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ssiniboine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tsina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Brule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heyenne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hipewyan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ree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row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Dakota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Hidatsa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7" descr="plainsT"/>
          <p:cNvPicPr/>
          <p:nvPr/>
        </p:nvPicPr>
        <p:blipFill>
          <a:blip r:embed="rId1"/>
          <a:stretch/>
        </p:blipFill>
        <p:spPr>
          <a:xfrm>
            <a:off x="5486400" y="1828800"/>
            <a:ext cx="3170160" cy="3700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3429000" y="1752480"/>
            <a:ext cx="3276720" cy="37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ainah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ndan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glala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sage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to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egan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nca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apaw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rsi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ksika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ton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chita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anktonai India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oux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ved: Dakota’s, Kansas, Nebraska, Montana, and Wyoming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w they lived: Nomadic and moved frequently followed buffalo herds and lodged in teepe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 matter how often they moved they were a united trib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oux Tribe Con’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they wore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ps of leather in their hair to keep their hair pulled bac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thes were all made of animal skin (mostly deer skin). Women wore long dresses and leggings, men wore deerskins shirts and tight leggin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 Interesting Facts On Siou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oux means “Little Snake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fer themselves to Lakota/Dakot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cial activities powow, rodeos, and rac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yenne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ved- Great Plains east of Rocky Mountains west of Mississippi River, Settled in Montana and Oklahoma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w They Lived- Took care of morning chores after waking up, men prepared to start hunting, women would keep the camp in ord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yenne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They Wore- Men wore hip-leggings made of deerskin, women wore moccasins knee length leggings and dresses made of deerski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 Interesting Facts About the Cheyenne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yenee customs was smoking of the peace pi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d their own langu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homes were made from logs and ear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wnee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ved- Valley of Platte River, Nebrask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w They Lived- Women grew crops and made pottery, women were perceived as the power of life, men would hu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They Wore- Women wore skirts and moccasins, and in the winter they wore buckskin dresses, men would wear loin cloths in warmer weath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15:51:54Z</dcterms:created>
  <dc:creator>Penta Career Center</dc:creator>
  <dc:description/>
  <dc:language>en-US</dc:language>
  <cp:lastModifiedBy>Legion</cp:lastModifiedBy>
  <dcterms:modified xsi:type="dcterms:W3CDTF">2017-07-05T12:26:24Z</dcterms:modified>
  <cp:revision>6</cp:revision>
  <dc:subject/>
  <dc:title>Plains Indians</dc:title>
</cp:coreProperties>
</file>